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3A2-2023-4C8F-B93D-0DB77F44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9A0-3F7D-4B88-902C-B7B47BA0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BC9-8892-4538-AF9A-4C427811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499-DB7A-4680-B868-E6383BC3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623-BF76-4F94-BCEA-870E5D6E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D3F-6A09-4BAA-90D0-921B45EC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066-960A-4529-9F86-762505D8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401-B786-4266-8285-1E8B7A1F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93C-DAD7-4473-B7D6-622D6DA5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9E7-2C7B-4B58-A705-83D9EF68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0F8-5F59-4F2D-B206-527507EE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4AD-A00A-43C0-9EBD-709C2C39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F5BE-BCCA-44E2-8511-DBAB80FFEC2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uncompress the “rtl8192cu_linux_v2.0.xxxx.2010xxxx.tar.gz” file. (in “driver” dire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tl8192CU_linux_v2.0. 939.20100726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192C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7-27T06:06:39Z</dcterms:modified>
  <cp:revision>101</cp:revision>
  <dc:subject/>
  <dc:title>投影片 1</dc:title>
</cp:coreProperties>
</file>