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020-DA4B-4CB7-B9FC-96B0F3AF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9D7-1E86-4275-BD4A-A73D8BCA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028-1C74-4003-BEE8-C3B5E0B1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4754-753A-4124-A8D5-57283656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B67-A3C1-4948-B882-50013049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2B99-59EC-44BC-B0CE-CC0580C1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76FE-6592-4D9A-A514-6BAC0A83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745-6E1E-4F7A-B203-6DF1E616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3A5-890C-461B-AC8A-F212A9C2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6E37-2138-4704-8D85-25E44DF3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D9B-1D1A-409B-B4CC-F3AC7370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9C1B-344C-40A9-BA82-82CD5C80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47AE-A845-464A-B607-0162753CFFA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192C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32bits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192C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pa_supplican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92C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ake 8192C USB Linux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1) step1: uncompress the “rtl8192cu_linux_v2.0.xxxx.2010xxxx.tar.gz” file. (in “driver” direc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rtl8192CU_linux_v2.0. 939.20100726.tar.g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192C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192C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192c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7-27T06:06:39Z</dcterms:modified>
  <cp:revision>101</cp:revision>
  <dc:subject/>
  <dc:title>投影片 1</dc:title>
</cp:coreProperties>
</file>